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7FDD-6504-40CA-97EC-58B2E183E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AC34-291A-410A-9E14-25DEF670A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940D-7A4A-48B9-B5E5-40DDD3AE8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7734-7AFD-4399-B08A-8369DD776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0C23-1741-4645-BEA9-4E87FAAC7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1631-CA7C-4EDE-937F-E1C324B9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1D68-477C-4B4C-A07E-1B49919E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9870-4025-4BBC-B599-D734EA8A4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1207-91E0-4717-9822-70BF847D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B5A0-E8AF-4FAF-B12E-D14C4062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D550-3585-4648-9AE2-436E7BDB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CE05-07ED-4276-89BB-09FA60DD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2205C-1C49-432F-A1E5-2C68E4F65F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876920" y="609480"/>
            <a:ext cx="2514600" cy="419112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533520"/>
            <a:ext cx="4267080" cy="42670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81560" y="1181160"/>
            <a:ext cx="838080" cy="228600"/>
          </a:xfrm>
          <a:prstGeom prst="flowChartMagneticDrum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266000" y="83808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ON_S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3962520" y="129528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790600" y="1143000"/>
            <a:ext cx="105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mma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81560" y="1943280"/>
            <a:ext cx="838080" cy="228600"/>
          </a:xfrm>
          <a:prstGeom prst="flowChartMagneticDrum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266000" y="160020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ON_RC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3962520" y="20574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89520" y="1905120"/>
            <a:ext cx="10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espon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066680"/>
            <a:ext cx="1143000" cy="11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2895480"/>
            <a:ext cx="1143000" cy="11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ll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81560" y="3390840"/>
            <a:ext cx="838080" cy="228600"/>
          </a:xfrm>
          <a:prstGeom prst="flowChartMagneticDrum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34400" y="304812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AR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114440" y="350532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66560" y="3352680"/>
            <a:ext cx="89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66680" y="2057400"/>
            <a:ext cx="1143000" cy="11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ask_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429000"/>
            <a:ext cx="1143000" cy="11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ask_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81560" y="2476440"/>
            <a:ext cx="838080" cy="228600"/>
          </a:xfrm>
          <a:prstGeom prst="flowChartMagneticDrum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09280" y="220968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R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09320" y="2590920"/>
            <a:ext cx="35816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866560" y="2438280"/>
            <a:ext cx="89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209680" y="2590560"/>
            <a:ext cx="615960" cy="10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285640" y="3657600"/>
            <a:ext cx="685800" cy="2286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2209320" y="2819520"/>
            <a:ext cx="762120" cy="3808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762120"/>
            <a:ext cx="220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eal-time 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(a modu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260320" y="403848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cl-Tk pa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(a Linux proces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30T15:31:35Z</dcterms:created>
  <dc:creator>andre</dc:creator>
  <dc:description/>
  <dc:language>en-US</dc:language>
  <cp:lastModifiedBy>andre</cp:lastModifiedBy>
  <dcterms:modified xsi:type="dcterms:W3CDTF">2000-06-30T15:33:07Z</dcterms:modified>
  <cp:revision>1</cp:revision>
  <dc:subject/>
  <dc:title>Présentation PowerPoint</dc:title>
</cp:coreProperties>
</file>